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69784"/>
        <c:axId val="62305677"/>
      </c:barChart>
      <c:catAx>
        <c:axId val="89869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05677"/>
        <c:crosses val="autoZero"/>
        <c:auto val="1"/>
        <c:lblAlgn val="ctr"/>
        <c:lblOffset val="100"/>
        <c:noMultiLvlLbl val="0"/>
      </c:catAx>
      <c:valAx>
        <c:axId val="6230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9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0F9-182D-43AF-9891-94D756B9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F25-633B-4FCE-83A7-FA8964D0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2158-83F2-41A0-81A8-AEC5977C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BAB-F43B-487C-AA7A-99ABBE56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9B9-95B3-4DF8-A56F-C1051FF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442-CA4D-4EDD-84F3-2996FE6D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3E0-FFBC-4B39-8BA7-2FB0C64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52A-B5E4-47F6-961B-397549E7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F1E-F1F0-4312-A1B9-7634EE03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774-07F4-44A2-9ED9-EBE4332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317-694D-430C-9109-5ACAE8B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CD3-2638-4959-A08E-1188569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2342E-42CC-45CA-8FAD-B6DE50ECB2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