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90035"/>
        <c:axId val="96717369"/>
      </c:barChart>
      <c:catAx>
        <c:axId val="113900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17369"/>
        <c:crosses val="autoZero"/>
        <c:auto val="1"/>
        <c:lblAlgn val="ctr"/>
        <c:lblOffset val="100"/>
        <c:noMultiLvlLbl val="0"/>
      </c:catAx>
      <c:valAx>
        <c:axId val="96717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900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DC68-FE2F-4BE9-B9B5-63C78654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4E0-F176-45DA-877D-C5C1F502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1DD1-BE9E-4060-9EF8-ED0D8302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299-2E4A-4ED1-B467-9E769D8E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CFD-B095-4871-B595-00F1E1BB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16A-7F96-4F9B-AF27-7C7A1471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49D-2887-4D61-B9BD-0116140F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CBE-26D4-4B80-B1D4-36B5B27F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169-A26F-474D-B6A2-16B17431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D98A-9E76-4354-8F76-3F7A9DA8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40A8-A29D-4EE1-94BA-82B00458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29A-557D-421C-A298-A856E852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5D7E2-45D1-4A11-8715-836E97F370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