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11173"/>
        <c:axId val="11195539"/>
      </c:barChart>
      <c:catAx>
        <c:axId val="68511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5539"/>
        <c:crosses val="autoZero"/>
        <c:auto val="1"/>
        <c:lblAlgn val="ctr"/>
        <c:lblOffset val="100"/>
        <c:noMultiLvlLbl val="0"/>
      </c:catAx>
      <c:valAx>
        <c:axId val="11195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1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F0C-FD64-40A2-9173-D83C3123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204-90E6-4A05-A175-6DF5CA88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452-5E45-4B73-AE43-517CDE8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1AB-127F-4939-85BF-68199648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7A8-C30B-433B-94F4-FC4506D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223-CD88-4233-87DB-CA776FB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64D-B2D2-4CBA-B74F-8CCA758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FEB-90CE-4B28-970A-89E13407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46C-F7A4-470E-8F3E-4701A09F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119-8CED-46C4-8295-573AB85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E18-035C-4E9D-B2A8-34A1998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CC3-8C83-4FB4-95A9-1BA054E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E9B00-8235-464E-8E72-4C4BB899FB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