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35402"/>
        <c:axId val="63660948"/>
      </c:barChart>
      <c:catAx>
        <c:axId val="65135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60948"/>
        <c:crosses val="autoZero"/>
        <c:auto val="1"/>
        <c:lblAlgn val="ctr"/>
        <c:lblOffset val="100"/>
        <c:noMultiLvlLbl val="0"/>
      </c:catAx>
      <c:valAx>
        <c:axId val="63660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35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6B68-BCF0-437E-80A5-D59F08C2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4D5-B98C-4177-96B2-BE37C280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16D-2A32-48FB-9231-31B19F8E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162-E264-4D2C-92A8-7F6D4DB6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0A8-CB46-46F5-9A5A-4D17DA96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6A1-700A-42E7-8CE7-34E301C7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A52-320A-4947-9B1F-133F7358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AA7-3544-47B0-8375-36ED3722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922-5F89-485A-AC85-AEBB6800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8E0-81DE-43AB-92C3-8BF080CC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027-9183-4721-8B7E-00703EA2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558-4187-469A-A173-7239CC88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969F4-6A79-4586-B518-01ABBB51B1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