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61043"/>
        <c:axId val="5945742"/>
      </c:barChart>
      <c:catAx>
        <c:axId val="36161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742"/>
        <c:crosses val="autoZero"/>
        <c:auto val="1"/>
        <c:lblAlgn val="ctr"/>
        <c:lblOffset val="100"/>
        <c:noMultiLvlLbl val="0"/>
      </c:catAx>
      <c:valAx>
        <c:axId val="5945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1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72F-62F0-4767-9373-BC0B6FB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C7D-C57F-4583-96E3-62D35522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18A-E112-4590-AAC5-108EBD8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E7A-E4B8-4F42-96FD-CF29A946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4E2-B7DB-41D1-BBA4-7779E43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191-5847-47CB-929E-74ACCA15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9B8-06D2-4BAD-B1EE-9D69517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4E4-13BA-4737-B630-004C6AB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388-6B99-4C39-BA08-E839428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355-B0FC-4E2A-AB4A-5498E33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775-8872-4454-BEBC-C8E3A4C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247-71B6-4864-850F-4400672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F139-79DE-478F-B575-79F0F1B043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