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48499"/>
        <c:axId val="11008695"/>
      </c:barChart>
      <c:catAx>
        <c:axId val="94748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8695"/>
        <c:crosses val="autoZero"/>
        <c:auto val="1"/>
        <c:lblAlgn val="ctr"/>
        <c:lblOffset val="100"/>
        <c:noMultiLvlLbl val="0"/>
      </c:catAx>
      <c:valAx>
        <c:axId val="11008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48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66E-9E87-4BAF-8DAE-BAD141FB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8F8-C26D-471E-95A4-365131A9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288-0482-478D-A703-C08AB98C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2FE-AA49-41E4-A626-B7D31994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E2F-A439-442E-B9D3-7A668418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B17-DA42-4D22-8CF2-9C6FC8DE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595-F96E-4492-BB74-27589CBA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400-7B3D-4D47-BA3C-E744C866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AD6-813E-433E-BDEB-0E3ACBA6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E1D-33DA-464B-A064-B65A6AE3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7FB-58C9-4698-9BB2-421A6452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758-6E98-43EF-BE87-6CC20183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225F2-95EF-4183-ADC8-DBC0844AA4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