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955379"/>
        <c:axId val="79117643"/>
      </c:barChart>
      <c:catAx>
        <c:axId val="595537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117643"/>
        <c:crosses val="autoZero"/>
        <c:auto val="1"/>
        <c:lblAlgn val="ctr"/>
        <c:lblOffset val="100"/>
        <c:noMultiLvlLbl val="0"/>
      </c:catAx>
      <c:valAx>
        <c:axId val="791176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95537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BB3A-DB43-4FC1-9A5C-8C4147A497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28F22-5960-44B5-B92B-EA9164FA2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875B-DDC6-4C52-9658-4B44CE470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6AFB-E89D-44AA-839C-B61EF99D3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669B-57EA-46A6-8090-BBDFBF748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BF70D-D70E-439A-B2A8-5F1F49580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666B-6068-45ED-AA4E-349EFB932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C1AF4-CF3C-40F1-A4B8-E2739FF7F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D5026-1307-414D-8DDA-6E819D01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1531-2F51-41EF-8034-B94B1E4D2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673B-D407-418E-ACC4-6BC8164A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9EE4-CCF4-4E1D-A093-1DEFB28D8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3EE2AE-AE03-4CD7-A975-1E8161E48B5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