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24895"/>
        <c:axId val="85468274"/>
      </c:barChart>
      <c:catAx>
        <c:axId val="17024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68274"/>
        <c:crosses val="autoZero"/>
        <c:auto val="1"/>
        <c:lblAlgn val="ctr"/>
        <c:lblOffset val="100"/>
        <c:noMultiLvlLbl val="0"/>
      </c:catAx>
      <c:valAx>
        <c:axId val="85468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24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8CF-BF74-4DEB-9AF9-7960B0BF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06C-2AD5-41CB-910D-483E022B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383-5CAB-47E0-A69C-50EED9C5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040-0616-402D-93E5-C4C80C06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22A-5080-4054-984B-42140B16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00F-7032-4634-B56C-4B55E06F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085-BD08-489B-AAD0-690D801E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15C-D49A-49E6-A1EE-869AFCDE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793-1B9B-4E1D-83A7-5148A75C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A896-AEEC-4F4A-A223-9769F785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037-F604-41CD-A2E1-33EDBC42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B4F-0346-4B84-9587-6D689BC7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2330B-578E-43F7-85B5-DA92A3AEA8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