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64645"/>
        <c:axId val="23799846"/>
      </c:barChart>
      <c:catAx>
        <c:axId val="95864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99846"/>
        <c:crosses val="autoZero"/>
        <c:auto val="1"/>
        <c:lblAlgn val="ctr"/>
        <c:lblOffset val="100"/>
        <c:noMultiLvlLbl val="0"/>
      </c:catAx>
      <c:valAx>
        <c:axId val="23799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64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C19-0390-461B-B339-1FC1203C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F9A-77F6-444C-BF32-CFDC4E6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8BA-A18D-46DF-BF8D-751F8FEF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749-95FE-4ED9-9428-466A9890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A7C-E707-4922-8940-F4619C1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EDD-FC0E-4793-980A-B577702E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A6A-5975-4F76-9E86-97A25A7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10C-7361-4A2A-A759-03ADD57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EBF-4555-41C3-B29D-92DE1B3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89D-88E6-46D9-B266-15EE5D6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614-EDDA-4EF8-9E09-9958D5A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04B-057A-45B1-8424-8B0F6FE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DEC07-619D-4EDD-8692-EA5B08B37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