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415168"/>
        <c:axId val="96241443"/>
      </c:barChart>
      <c:catAx>
        <c:axId val="90415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41443"/>
        <c:crosses val="autoZero"/>
        <c:auto val="1"/>
        <c:lblAlgn val="ctr"/>
        <c:lblOffset val="100"/>
        <c:noMultiLvlLbl val="0"/>
      </c:catAx>
      <c:valAx>
        <c:axId val="96241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15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92AC-DAE3-4C44-BABA-794C38E4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027-576A-4D9F-A031-ED68F057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440-CB7E-4319-9E2C-7C30BA26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EB0-3541-4D90-AC24-0D4EA47A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88E-272B-40AE-A9E8-ADFA874D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FFA-911B-4460-8565-C52D4DCB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61E-32E8-44D5-B35C-A6EB1FFD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0673-1C0D-4A8F-8422-F5325122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8956-A24E-4B0B-AD83-FDD2ACDF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CBA-4049-461C-8B20-A34DD86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F48-3379-4775-BFBD-AC1A2D5A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2F4-E314-47C7-86B1-3A209D98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2ECD5-A37E-43EB-A3B6-30AC1BAD5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