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937572"/>
        <c:axId val="98905875"/>
      </c:barChart>
      <c:catAx>
        <c:axId val="549375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05875"/>
        <c:crosses val="autoZero"/>
        <c:auto val="1"/>
        <c:lblAlgn val="ctr"/>
        <c:lblOffset val="100"/>
        <c:noMultiLvlLbl val="0"/>
      </c:catAx>
      <c:valAx>
        <c:axId val="989058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375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692E-102D-4511-956C-CE28D444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E18-AA21-4936-833B-714026FD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CC43-68A3-4EEE-AAF0-ABD8C9B7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01C5-AC88-49B5-893F-01C1C47E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0366-9A2D-4D4A-8053-471961F0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B12A-4D7A-4F58-AC1F-EB9DCF31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5892-ACA0-4466-85A5-B6F81EED7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C41B-1F0A-4C48-9380-73367ECB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6F4-FEF7-4205-87C6-6A2FDDE5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B684-8523-4BE1-BEF5-700B083A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D54D-24AC-421E-9D99-E9704A43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161-DF28-40F2-9711-97F622E5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ADCC8-8388-4819-ACA1-7B8221E923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