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65121"/>
        <c:axId val="80888750"/>
      </c:barChart>
      <c:catAx>
        <c:axId val="43665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8750"/>
        <c:crosses val="autoZero"/>
        <c:auto val="1"/>
        <c:lblAlgn val="ctr"/>
        <c:lblOffset val="100"/>
        <c:noMultiLvlLbl val="0"/>
      </c:catAx>
      <c:valAx>
        <c:axId val="80888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65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A7C-CB48-4A5F-9989-0AC6A364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188-6ECF-46B4-8054-C12D25F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379-1016-4761-B952-A8C0301A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1B6-DC97-40BC-B1E1-F3F22770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F70-250D-459E-A419-B338F10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4E3-E385-4FCD-901B-C73367E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916-E594-475B-8CC4-99C9297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04C-B511-42CA-BAD4-5270F2BB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4C3-286D-4374-B494-FF37462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D93-D4A9-4558-B055-026447FB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A1D-34BC-43F5-B625-90F6D3D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477-9BDD-4E17-A21F-E429833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264F8-1158-4351-A9BE-F454933D4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