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58692"/>
        <c:axId val="10024849"/>
      </c:barChart>
      <c:catAx>
        <c:axId val="16558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24849"/>
        <c:crosses val="autoZero"/>
        <c:auto val="1"/>
        <c:lblAlgn val="ctr"/>
        <c:lblOffset val="100"/>
        <c:noMultiLvlLbl val="0"/>
      </c:catAx>
      <c:valAx>
        <c:axId val="10024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58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5F0-D193-490B-B5B5-C0D3BB29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BA4-39AB-487F-AAA0-E00110F7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4C9-2647-423D-B26F-05B3A13A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58A-1F09-4505-96BB-9443EA8F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469-4042-48FF-B13B-03B6B6B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EAA-D684-4B23-BD82-7B0E9461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DF5-56A7-4AE3-8537-58C13A00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D0B-B4DE-4D35-8311-CA4E2181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109-E824-4341-B515-D63878C7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9E5-0F96-414D-9C68-45AA8A3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6FB-0081-4F39-B89E-06A4BF8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8C5-2555-46BC-8DE6-4CE5A88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11D76-C966-407E-84A4-95BBA726E9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