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1291"/>
        <c:axId val="966161"/>
      </c:barChart>
      <c:catAx>
        <c:axId val="4441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161"/>
        <c:crosses val="autoZero"/>
        <c:auto val="1"/>
        <c:lblAlgn val="ctr"/>
        <c:lblOffset val="100"/>
        <c:noMultiLvlLbl val="0"/>
      </c:catAx>
      <c:valAx>
        <c:axId val="966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1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AAD-9A75-4AD5-90ED-33572E8C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3E2-589A-4CED-BD9F-AD0C06F9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B77-D2A7-4925-B721-B4CF7474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3E7-8952-4D34-8983-E24EEE89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EE3-5E62-43C7-A4F8-FB7225DD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3F5-860F-4A0D-BA46-61153EEC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D48-BAF8-4D8F-AF7B-87C757D5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BC5-2AA6-410B-8C54-EC1B85D6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54E-4EFB-4D51-93A7-299D9DCB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963-E4F9-40EB-A805-68DECFD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822-70EA-4F0C-99F7-C06EBD4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673-9948-4290-9A00-29579F8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696EA-103F-4DA0-9492-5FD1B68354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