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876329"/>
        <c:axId val="94062029"/>
      </c:barChart>
      <c:catAx>
        <c:axId val="608763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62029"/>
        <c:crosses val="autoZero"/>
        <c:auto val="1"/>
        <c:lblAlgn val="ctr"/>
        <c:lblOffset val="100"/>
        <c:noMultiLvlLbl val="0"/>
      </c:catAx>
      <c:valAx>
        <c:axId val="940620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763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6A22-3459-4CF9-A12C-9FE3DA31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56D-CDE2-443C-933C-52233E83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6F32-7B60-4701-BBA0-6F7DDC91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4277-85A0-467E-8181-E45FD4BC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6D84-DD2D-44DA-8521-B4387A60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4A65-AB15-4CCD-803E-A3806E7F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05FB-44A5-46AF-8EB3-F3EEC7C4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F66E-D299-4A95-9A8C-3F4D9E75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9268-613F-4FC8-B5E3-E45E4711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4D23-DF2F-430C-A08B-3863D880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18D5-97D5-44E8-AF97-F5B2348A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9F6C-DD42-4BD8-97D0-9069DE78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A92EA-6FE3-4A7C-AAB1-20C84F8271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