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01862"/>
        <c:axId val="39592809"/>
      </c:barChart>
      <c:catAx>
        <c:axId val="56801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92809"/>
        <c:crosses val="autoZero"/>
        <c:auto val="1"/>
        <c:lblAlgn val="ctr"/>
        <c:lblOffset val="100"/>
        <c:noMultiLvlLbl val="0"/>
      </c:catAx>
      <c:valAx>
        <c:axId val="39592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01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129-FC83-4E92-8B7D-447A9631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BB7-163C-4985-9679-A81A2CF2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537-C798-48D8-B59D-D987B638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8EF-4788-465D-BCB2-FF55DE345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7DF-2CDE-428F-AAA4-2ADCFA23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243-3EAE-4DBE-A361-A54A4AE9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7F2-6E8E-478C-975F-0C026BFF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3FE-A695-4235-A3F5-C647E8E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118-7FEC-49AD-952D-39C3C50E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800-F797-4018-803F-162F228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C6BD-6DB0-4BEE-857D-0C5F085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107-631F-4080-88BE-07E4857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7DEB9-98D9-47F9-B558-C20C9AAFF2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