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42768"/>
        <c:axId val="44022873"/>
      </c:barChart>
      <c:catAx>
        <c:axId val="16342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2873"/>
        <c:crosses val="autoZero"/>
        <c:auto val="1"/>
        <c:lblAlgn val="ctr"/>
        <c:lblOffset val="100"/>
        <c:noMultiLvlLbl val="0"/>
      </c:catAx>
      <c:valAx>
        <c:axId val="44022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42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FFC-5FBE-475C-9963-090AA2B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41F-0A23-4F5D-B2AF-5414452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F92-241B-42CF-9199-A5EF4713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ADF-4797-4436-A04B-193CB66B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E87-A1F7-4AFE-9599-AB6884A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CCB-4D0F-4E52-99DF-706E402D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857-F1CA-45E7-A2E0-0FB912A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B96-D13C-4CDE-9BA0-20B6A5CC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9AE-8365-477A-9FDB-4DF5527D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97C-36A6-4030-8286-3675E68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BC7-E8A4-44D9-BA2B-0BD5453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7D3-BEFA-41D4-A3F9-8D39BE9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9BD02-3159-4431-A145-4D028C66A9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