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45952"/>
        <c:axId val="57331259"/>
      </c:barChart>
      <c:catAx>
        <c:axId val="72045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31259"/>
        <c:crosses val="autoZero"/>
        <c:auto val="1"/>
        <c:lblAlgn val="ctr"/>
        <c:lblOffset val="100"/>
        <c:noMultiLvlLbl val="0"/>
      </c:catAx>
      <c:valAx>
        <c:axId val="57331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45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A79-9E59-4C75-A53C-EDF840EB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94E-C223-4007-A6F7-019FDDB4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245-8AF9-4FD1-883B-F0B5C78D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979-45E0-4ADA-A985-7B9F95D8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4D0-1655-42ED-942F-799C5087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0F6-B7B2-489A-B243-E23EEB69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95B-7C32-4B95-AEDB-AF9DE2DD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A3B-EEBA-4852-B7C1-04989D5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3B7-6B17-42D4-9503-97C4F392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2BF-860E-4AE0-B379-96CE3284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76D-E592-4A45-B44C-97C27AF4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B0A-50BC-4B18-BFC3-80C0041F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CDB9D-CBF2-4A0A-B829-74E96E9331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