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9650"/>
        <c:axId val="38559640"/>
      </c:barChart>
      <c:catAx>
        <c:axId val="64529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59640"/>
        <c:crosses val="autoZero"/>
        <c:auto val="1"/>
        <c:lblAlgn val="ctr"/>
        <c:lblOffset val="100"/>
        <c:noMultiLvlLbl val="0"/>
      </c:catAx>
      <c:valAx>
        <c:axId val="38559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9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333-559F-4E78-ABDD-5270D86E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427-2213-4A6B-8246-E154C86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C37-CDE8-4F48-8A34-F0ACD7DB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B75-555E-4187-9007-8B1EFEE3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F77-3985-4A91-8159-C7A0E18B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24C-958E-439C-9B25-51BCE03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88C-7833-4DD8-9EBF-E64F493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259-8D2F-4BF8-AE99-9A85C9CB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1AB-5CA2-4049-AF97-BDE4C898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379-A487-4025-99B1-7F175809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19E-A915-4376-BA66-F3067A2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882-A37F-4593-816A-D684D631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45DB5-DE80-43DC-96DF-A0B461556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