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3252"/>
        <c:axId val="18970916"/>
      </c:barChart>
      <c:catAx>
        <c:axId val="5403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70916"/>
        <c:crosses val="autoZero"/>
        <c:auto val="1"/>
        <c:lblAlgn val="ctr"/>
        <c:lblOffset val="100"/>
        <c:noMultiLvlLbl val="0"/>
      </c:catAx>
      <c:valAx>
        <c:axId val="18970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3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966-5B5F-47F2-9675-C7BE5D70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BA0-A676-477E-AF0C-428D77F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C44-1828-4D0A-AC95-AF68C054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64B-3372-4295-947E-6D942CE5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AB0-C7CD-4D98-9056-CA412F9C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8FF-C039-4F8C-8B3C-26824F9B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5C8-7E4F-4DD0-AC3D-A97999DE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4C6-FE21-4CD2-8CA7-63C2FF60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C94-1F1A-4EDE-888B-B44E5758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35D-5BC5-4B27-870D-187EF00B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474-44B3-4214-8692-F42D1D15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13B-7B5C-433C-B1FB-BE9535B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35F37-0FA3-48C9-B91F-01B1C3EB83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